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76458-1630-43C0-9137-42C2249E3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BBE6B-4E14-4C80-8DEB-5F5043CAB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E254E-BFC6-4F27-A33D-36215C47B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22D1B-0B9D-43BC-95EF-F26B0050D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4345F-3306-482B-8A88-4D57E25EC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10815-F019-4027-9027-580F2768C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D49ED-441D-4028-81F8-D2B2F9923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939FB-8893-49E3-89F4-CC02DF503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C5078-4A11-417B-A37E-C4AE07E78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B029B-A4E5-4E41-BEC9-BDDEF57EB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F3CC1-65EF-4C02-97F6-05EB54702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CFB15-F0FB-44F3-A892-4116913F0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34F19-E38A-401A-9DFE-A7F70E826EB7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380520" y="4952880"/>
            <a:ext cx="8533080" cy="13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용민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수경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979640" y="1197000"/>
            <a:ext cx="5040360" cy="178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위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지하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호선 백석역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7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번출구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도보로 약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아침에 지하철역 앞에 셔틀다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692360" y="2924280"/>
            <a:ext cx="547200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남 – 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머리 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장 단정하게 할 것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!!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토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매주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5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요일마다 일주일씩 구입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당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2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–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하루 정해서 병동에 내려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–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입원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외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동안 하루 정해서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치료실마다 하나씩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report 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치료실마다 하나씩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+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논문번역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ase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발표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024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질문 많음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대부분 용인대 출신 선생님들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환자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ransfer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해야 함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modality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루한 편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선생님 한 분과 같이 풀에 들어가서 관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성인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로 나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장점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부분의 전문적인 치료를 볼 수 있다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환자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est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간 주어짐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설 좋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밥 한식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양식 둘다 맛없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리적으로 멀리 위치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고시원 잡은 학생들 많았음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Staff</cp:lastModifiedBy>
  <dcterms:modified xsi:type="dcterms:W3CDTF">2009-04-11T08:29:06Z</dcterms:modified>
  <cp:revision>10</cp:revision>
  <dc:subject/>
  <dc:title>영남대학교의료원</dc:title>
</cp:coreProperties>
</file>