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724C-FC27-444A-BD51-7CF489FEA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B980-2BBF-4D94-B12C-D9FC27A2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1698-B8AE-47C9-A922-3A822085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EA46-851C-4189-8873-4F7EF0266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28E6-E547-4CC2-8004-3C3FBF88C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7D62-33B3-46C4-865D-276492B25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4B91-7E82-4FB2-A89B-47913285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ED5E-4B5B-4E81-8398-12469754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8AE-501A-4B24-9477-02FA92FF0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75F7-356A-4E5B-87CF-07925BF1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6C04-8F28-42EA-A24C-D04943F1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98E-2CD0-4343-82F0-39B7A73D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4EB4-5333-43C1-9DA4-02E912E2D28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용민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79640" y="1197000"/>
            <a:ext cx="5040360" cy="17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호선 백석역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번출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도보로 약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아침에 지하철역 앞에 셔틀다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5472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– 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 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하게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매주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요일마다 일주일씩 구입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당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2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하루 정해서 병동에 내려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–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입원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동안 하루 정해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치료실마다 하나씩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+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번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ase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발표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24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질문 많음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부분 용인대 출신 선생님들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ransfer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해야 함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modality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루한 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실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선생님 한 분과 같이 풀에 들어가서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성인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로 나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장점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zh-CN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환자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간 주어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 좋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 한식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양식 둘다 맛없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리적으로 멀리 위치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고시원 잡은 학생들 많았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06Z</dcterms:modified>
  <cp:revision>10</cp:revision>
  <dc:subject/>
  <dc:title>영남대학교의료원</dc:title>
</cp:coreProperties>
</file>