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E956-359B-421B-81C7-C64EC5835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42DD-607F-4F07-945E-6C1F583E5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A725-D49A-454C-9A6A-97F2CE185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7DFB-33D2-4CF5-A4F7-064F6DD5F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0AA0-86C0-49F6-B630-33782A2E7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93DF-ADA5-4039-B314-433280AC8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F489-3570-4E40-96E9-A2B735364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A7BD-0BAC-40AA-91B5-CB0B89711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6137-A422-4EDF-B730-D9DBE2ADE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9EF6-652E-4785-B4B2-5D63B5804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4F62-C106-4AC3-93CC-E00FDB26D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8C3E-A3C3-4FB7-8D98-5E46D67A3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DB056-9224-4D04-9B54-DD08373B818E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대구한의대부속 대구한방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표자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최창항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Welcome to Paradise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356000" y="1599840"/>
            <a:ext cx="4788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물리치료사 선생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6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출근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8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업무시작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9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~ 5:3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점심시간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12:30 ~ 2:00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실습일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기타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라인을 잘 타야 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차로 가는 게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인사 가는 게 좋음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9280" y="2606760"/>
            <a:ext cx="4038840" cy="25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수고하셨습니다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7:45:20Z</dcterms:created>
  <dc:creator>경상대 컴퓨터실 프린터</dc:creator>
  <dc:description/>
  <dc:language>en-US</dc:language>
  <cp:lastModifiedBy>경상대 컴퓨터실 프린터</cp:lastModifiedBy>
  <dcterms:modified xsi:type="dcterms:W3CDTF">2009-04-09T07:47:38Z</dcterms:modified>
  <cp:revision>2</cp:revision>
  <dc:subject/>
  <dc:title>대구한의대부속 대구한방병원</dc:title>
</cp:coreProperties>
</file>