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9C0F-18F1-4664-8D79-522C40F1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428-E516-4A08-947A-BD349243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4662-2260-40B8-922F-AB10EFA04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16A7-6E48-4001-B5CE-EA3591033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0687-963B-4555-BED0-136D733B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9EC0-FF57-443E-918E-CCA8D6CE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A84C-9648-4D37-B0B5-961EB2C3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A4F8-B431-4D5C-8CFC-B41079DA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53E6-3D8B-4056-9A62-F1B70F0B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C9E8-D5AE-404F-B5DF-A4044E1B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6B9B-439A-4C6E-B674-BBDB0D7E0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4F39-9B25-4AA9-B76F-DB307458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6B235-898D-4C12-8D13-5721C049137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6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대학교병원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520" y="4436640"/>
            <a:ext cx="8533080" cy="18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생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김은희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오혜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기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08.12.29 ~ 09.0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교 통 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위치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광역시 서구 구덕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지하철 이용시 편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산 지하철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호선 토성동역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번 출구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복  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 내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화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가운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면바지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머리망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블라우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카라있는 면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습초기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퇴근시 정장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구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이후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편안한 복장으로 출퇴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및 기타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근무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월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금 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9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말 휴무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8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5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7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+</a:t>
            </a:r>
            <a:r>
              <a:rPr b="1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α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~ 13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시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대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병원 식당에서 해결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식권구입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한끼 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,500</a:t>
            </a:r>
            <a:r>
              <a:rPr b="0" lang="ko-KR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원</a:t>
            </a:r>
            <a:r>
              <a:rPr b="0" lang="en-US" sz="30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물리치료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실장님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부실장님 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명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-2365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휴먼매직체"/>
              </a:rPr>
              <a:t>–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전기치료실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소아치료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236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소    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SOAP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노트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일주일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씩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첫 주 제외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약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에 한번 걷어서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과제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–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논문 번역 발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4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1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- 8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주 실습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2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개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특    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여러 케이스의 환자들을 접할 수 있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직접 환자를  다룰 수 있는 기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휴먼매직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단점 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밥이 비싸고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치료실이 좁다</a:t>
            </a:r>
            <a:r>
              <a:rPr b="0" lang="en-US" sz="32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휴먼매직체"/>
                <a:ea typeface="휴먼매직체"/>
              </a:rPr>
              <a:t>     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6T14:48:11Z</dcterms:created>
  <dc:creator>an</dc:creator>
  <dc:description/>
  <dc:language>en-US</dc:language>
  <cp:lastModifiedBy>Windows XP</cp:lastModifiedBy>
  <dcterms:modified xsi:type="dcterms:W3CDTF">2009-04-09T08:11:46Z</dcterms:modified>
  <cp:revision>12</cp:revision>
  <dc:subject/>
  <dc:title>영남대학교의료원</dc:title>
</cp:coreProperties>
</file>