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BB6D-17EB-4DC6-B855-DD103D42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599A-4EBE-4F77-8EEB-94BF7200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87F8-C4A1-4C08-ABFE-492E1C969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1294-1E45-4FA4-9D94-2AEE3553E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B0E81-8299-4E60-9F74-4939F8910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BF0ED-D90C-43E4-94F5-7E52DF9C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5014-D8E7-4109-B604-5AFA0912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8FEB-2825-4B7F-97C5-63249225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C0A7C-CF2B-4B99-8187-41A91007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100BE-2981-424E-AB2E-E19E6F1F2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9B2C-9B08-42DB-8280-5B71DDC47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C446-7B3F-4638-9B95-51A035AF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68E7-D8DF-4AD3-A872-49AC1FB1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DDAD-ED1F-446A-A43B-860B3850D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04C4-5585-4B96-B8CA-B6281F0DC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9B2B-FD12-4E48-B464-4F67EE279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9C05A-47A3-432F-92C8-23B771920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17A1-DB0A-49DC-A38C-26796C44E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372E-476E-4993-A251-67CD7D02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120-B0FB-44A2-850D-581B9C0F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72EC-DADE-4D0E-93C9-376BA11B5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6A35-8317-418C-B5E8-FD29E894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0968-D6E6-466A-B824-FA8B4138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17F6-9DD0-497D-B02E-46CFF1E1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0AB7-CCE4-4CC1-872C-930ED2D79265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A2D81-3C3A-48A3-BF6C-13153BA99FCD}" type="slidenum">
              <a:rPr b="0" lang="ko-KR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cafe.daum.net/severancePT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618920" y="2204640"/>
            <a:ext cx="6264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200" spc="-1" strike="noStrike">
                <a:solidFill>
                  <a:srgbClr val="000000"/>
                </a:solidFill>
                <a:latin typeface="굴림체"/>
                <a:ea typeface="굴림체"/>
              </a:rPr>
              <a:t>신촌 세브란스병원</a:t>
            </a:r>
            <a:endParaRPr b="0" i="1" lang="en-US" sz="5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050920" y="4005000"/>
            <a:ext cx="6400800" cy="19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발표자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수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종숙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최환서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기간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12.29~2.21 (1,2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차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8532720" cy="104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9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37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4608360" cy="4896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932360" y="1197000"/>
            <a:ext cx="395928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호선 신촌역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출구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걸어서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 출구 바로 앞에서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연세대학교 정문까지 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버스 환승가능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병원위치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4105080" cy="5040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4427640" y="1125360"/>
            <a:ext cx="4465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본관 새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본관에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7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번이 재활병원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재활병원 내 물리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파트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600" spc="-1" strike="noStrike">
                <a:solidFill>
                  <a:srgbClr val="292929"/>
                </a:solidFill>
                <a:latin typeface="굴림"/>
              </a:rPr>
              <a:t>개 치료실이 운영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4572000" y="3573360"/>
            <a:ext cx="417672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복장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폴로 티셔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카라있는 티셔츠로서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여름엔 반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추우면 긴팔 선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바지는 면바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청바지 절대 안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신발은 오랜 기간 서있어도 편한 캐쥬얼 슈즈 혹은 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흰색 운동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사실 색은 별 상관이 없음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필히 수영복과 개인 수건 지참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수치료 실습시 필요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가운 필요 없음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8000" y="1790280"/>
            <a:ext cx="821844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스케쥴표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실습생이 직접 짜서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 출력 해서 가야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총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파트로 실습 나오는 학생들이 같은 층에 배 치 되지  않아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39640" y="3716280"/>
            <a:ext cx="8064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실습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-12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 시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:30-1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후 근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0-5:3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출근 시간은 공식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:3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까지이나 각 층별 스케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PT rounding, conference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에 따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에 시작할 때도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날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 까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물리치료실로와서 실습 당담치료사를 찾아가면 된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그외준비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는 첫날 반명함판 사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 필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 제작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브란스는 자체 명찰을 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주일 한번 렉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점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이나 직원식당을 이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학생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500~30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원식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찰제시시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: 2500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도 안내해 주지 않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잘 찾아 가야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실습환경 및 생활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brain injury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SCI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명 관찰해서 매일 카페에 관찰 내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1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항목 올리기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본관 새병원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 &amp; web repor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Problem solving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치료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제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 u="sng">
                <a:solidFill>
                  <a:srgbClr val="f6bf88"/>
                </a:solidFill>
                <a:uFillTx/>
                <a:latin typeface="굴림"/>
                <a:hlinkClick r:id="rId1"/>
              </a:rPr>
              <a:t>http://cafe.daum.net/severanceP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 카페 주소만 알면 됨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;;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6:28:39Z</dcterms:created>
  <dc:creator>최원혁</dc:creator>
  <dc:description/>
  <dc:language>en-US</dc:language>
  <cp:lastModifiedBy>Staff</cp:lastModifiedBy>
  <dcterms:modified xsi:type="dcterms:W3CDTF">2009-04-11T08:08:15Z</dcterms:modified>
  <cp:revision>9</cp:revision>
  <dc:subject/>
  <dc:title>병원 실습 발표 - 대구 우리들 병원 - 대구 </dc:title>
</cp:coreProperties>
</file>