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4E43-018C-4162-9E79-5932C3C5263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A4F3-2A65-4109-88D6-7AC27AC0E1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7D91-7A46-43A4-A485-6B0FB8BF5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B39B-25DE-4000-933D-79EE23AB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4D40-4FEF-4568-B022-C569539C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040FD-DF06-4531-AC1B-908589D7B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D90-C9CA-4E30-98F5-D24B767B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8453-ADB3-409B-AED4-9FDEE531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0661-7E87-446F-92EE-94482FF73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19D6-C6FC-4D30-8A32-60B6534D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B8FA-23F4-4FDF-B51C-BFD3FE96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5E39-8420-4CB8-9A6B-1E4BACF7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5A8-948C-44BE-B68F-E65630A8A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8F9A-C5A3-4942-AD4D-D115855B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4A4B-30AB-4670-AA54-D2EAAF9D9408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남대학교의료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520" y="4952880"/>
            <a:ext cx="8533080" cy="13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차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해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승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25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9.01.28 ~ 2.20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위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2" name="Picture 5" descr="map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반 버스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순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-1, 410, 410-1, 405, 452, 503, 604, 805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달서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 65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영대병원역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대구광역시 남구 대명동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17-1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연락처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53-623-8001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남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넥타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검정색 종류의 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복장 단정히 할 것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!!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토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격주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,0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6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재활치료 분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2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FES,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7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층</a:t>
            </a:r>
            <a:r>
              <a:rPr b="0" lang="en-US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목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&amp; topic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있을수도 없을수도 있으며 일정에 따라 달라진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보통 짧으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길면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정도 소요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시로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repor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일지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art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별로 틀리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test (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마지막주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안할 수 도 있다</a:t>
            </a:r>
            <a:r>
              <a:rPr b="0" lang="en-US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5444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신경계 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 외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6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위주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PNF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흡운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bobath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-284400">
              <a:lnSpc>
                <a:spcPct val="2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</a:t>
            </a:r>
            <a:r>
              <a:rPr b="0" lang="ko-KR" sz="2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modality, manua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외래환자 우선으로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284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4572000" y="1447920"/>
            <a:ext cx="3476520" cy="41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FES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FES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수치료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동치료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4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 中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사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스트레칭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ROM, FES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각 부분의 전문적인 치료를 볼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종합병원급의 시스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lectur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conference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참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설낙후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 시간 때 쉴 공간이 없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에는 밥이 맛없었다고 하나 그냥 그럭저럭 먹을만 함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정형계 말고는 계속 서 있어야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분야로 나뉘어 있어서 모든 분야를 경험 할 수 있다</a:t>
            </a: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영대병원으로 오세용 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ㅁ</a:t>
            </a:r>
            <a:r>
              <a:rPr b="0" lang="en-US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^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Staff</cp:lastModifiedBy>
  <dcterms:modified xsi:type="dcterms:W3CDTF">2009-04-11T08:29:44Z</dcterms:modified>
  <cp:revision>11</cp:revision>
  <dc:subject/>
  <dc:title>영남대학교의료원</dc:title>
</cp:coreProperties>
</file>