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88BA-38C0-4808-826F-38C83C6C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A5DB-652A-4E55-8FE7-8672B0B7D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83221-58FF-4732-A84C-DEE69C17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F349-BAE5-49BD-A507-03F907071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EF2C-9CAC-4B45-97DD-DFFD1139F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04926-75B2-4202-B7F9-6B461F14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BAC9-CC7E-4C1B-9C9A-5ACC4BCE0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1E07-6194-414E-B419-3B86FC01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DF46-91FA-4BD3-BECF-B5215793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9879-CA75-4FCF-BCF1-9C4FA636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ABB5-CA87-4AB3-840E-809B828B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E0171-312C-4293-9258-A6EED50B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946C-8F8C-4248-B1C9-670CFF99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62402-9108-432A-95CB-705504F3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CB3E7-632E-42E0-A3EA-36DB0AE23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813D-1B87-4566-9587-5BEC65DEE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2DF13-1AF2-4906-A223-1DE51FC38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E586-9B0D-4F9E-8BE7-FE38B9EA6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DA5D-7688-4A71-91E2-B3E2C216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DB7-247F-43A2-9810-E7809F24B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0007-1ECE-4515-893E-5A2F32AA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5EF3-CACE-4120-9D18-1D24EFCF9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F686-1807-40DA-BF97-D0B88F50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1B97-EEE6-43DC-9A81-66AB40B7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1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21BB9-01AF-48BC-A955-119063126B41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자유형 6"/>
          <p:cNvGrpSpPr/>
          <p:nvPr/>
        </p:nvGrpSpPr>
        <p:grpSpPr>
          <a:xfrm>
            <a:off x="-6480" y="493560"/>
            <a:ext cx="2279880" cy="5943600"/>
            <a:chOff x="-6480" y="493560"/>
            <a:chExt cx="2279880" cy="5943600"/>
          </a:xfrm>
        </p:grpSpPr>
        <p:pic>
          <p:nvPicPr>
            <p:cNvPr id="45" name="자유형 6" descr=""/>
            <p:cNvPicPr/>
            <p:nvPr/>
          </p:nvPicPr>
          <p:blipFill>
            <a:blip r:embed="rId3"/>
            <a:stretch/>
          </p:blipFill>
          <p:spPr>
            <a:xfrm>
              <a:off x="-6480" y="493560"/>
              <a:ext cx="2279880" cy="594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268360" y="5000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grpSp>
        <p:nvGrpSpPr>
          <p:cNvPr id="47" name="자유형 7"/>
          <p:cNvGrpSpPr/>
          <p:nvPr/>
        </p:nvGrpSpPr>
        <p:grpSpPr>
          <a:xfrm>
            <a:off x="6815160" y="420840"/>
            <a:ext cx="2335320" cy="6016320"/>
            <a:chOff x="6815160" y="420840"/>
            <a:chExt cx="2335320" cy="6016320"/>
          </a:xfrm>
        </p:grpSpPr>
        <p:pic>
          <p:nvPicPr>
            <p:cNvPr id="48" name="자유형 7" descr=""/>
            <p:cNvPicPr/>
            <p:nvPr/>
          </p:nvPicPr>
          <p:blipFill>
            <a:blip r:embed="rId4"/>
            <a:stretch/>
          </p:blipFill>
          <p:spPr>
            <a:xfrm>
              <a:off x="6815160" y="420840"/>
              <a:ext cx="2335320" cy="601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6819840" y="4287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mbria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b5ad67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61a9b8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ab735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C7D2-C5A8-4898-BA58-B0D9B98470E4}" type="slidenum">
              <a:rPr b="0" lang="ko-K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95280" y="2060640"/>
            <a:ext cx="842472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0000" spc="-1" strike="noStrike">
                <a:solidFill>
                  <a:srgbClr val="6c6c6c"/>
                </a:solidFill>
                <a:latin typeface="Cambria"/>
              </a:rPr>
              <a:t>대구 경상병원</a:t>
            </a:r>
            <a:endParaRPr b="0" lang="en-US" sz="10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내용 개체 틀 5" descr="map1.JPG"/>
          <p:cNvPicPr/>
          <p:nvPr/>
        </p:nvPicPr>
        <p:blipFill>
          <a:blip r:embed="rId2"/>
          <a:stretch/>
        </p:blipFill>
        <p:spPr>
          <a:xfrm>
            <a:off x="4859280" y="2060640"/>
            <a:ext cx="3959280" cy="4176720"/>
          </a:xfrm>
          <a:prstGeom prst="rect">
            <a:avLst/>
          </a:prstGeom>
          <a:ln w="0">
            <a:noFill/>
          </a:ln>
        </p:spPr>
      </p:pic>
      <p:sp>
        <p:nvSpPr>
          <p:cNvPr id="93" name="부제목 2"/>
          <p:cNvSpPr/>
          <p:nvPr/>
        </p:nvSpPr>
        <p:spPr>
          <a:xfrm>
            <a:off x="324000" y="260280"/>
            <a:ext cx="388764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위치와 소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4" name=""/>
          <p:cNvSpPr/>
          <p:nvPr/>
        </p:nvSpPr>
        <p:spPr>
          <a:xfrm>
            <a:off x="539640" y="1484280"/>
            <a:ext cx="424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지하철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  <a:ea typeface="굴림"/>
              </a:rPr>
              <a:t>호선 두류역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" name="내용 개체 틀 2"/>
          <p:cNvSpPr/>
          <p:nvPr/>
        </p:nvSpPr>
        <p:spPr>
          <a:xfrm>
            <a:off x="-252360" y="2492280"/>
            <a:ext cx="69120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노인 전문 </a:t>
            </a:r>
            <a:r>
              <a:rPr b="0" lang="ko-KR" sz="3000" spc="-1" strike="noStrike">
                <a:solidFill>
                  <a:srgbClr val="f76b04"/>
                </a:solidFill>
                <a:latin typeface="Cambria"/>
              </a:rPr>
              <a:t>요양병원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중추신경계 환자 위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f76b04"/>
                </a:solidFill>
                <a:latin typeface="Cambria"/>
              </a:rPr>
              <a:t>  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뇌질환</a:t>
            </a:r>
            <a:r>
              <a:rPr b="0" lang="en-US" sz="2500" spc="-1" strike="noStrike">
                <a:solidFill>
                  <a:srgbClr val="f76b04"/>
                </a:solidFill>
                <a:latin typeface="Cambria"/>
              </a:rPr>
              <a:t>(CVA,TBI), </a:t>
            </a:r>
            <a:r>
              <a:rPr b="0" lang="ko-KR" sz="2500" spc="-1" strike="noStrike">
                <a:solidFill>
                  <a:srgbClr val="f76b04"/>
                </a:solidFill>
                <a:latin typeface="Cambria"/>
              </a:rPr>
              <a:t>척수손상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통증치료실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모달리티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341360"/>
            <a:ext cx="822960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 근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/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 근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출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8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2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퇴근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오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5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3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시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: 12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0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~ 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시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0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분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점심무료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" name="부제목 2"/>
          <p:cNvSpPr/>
          <p:nvPr/>
        </p:nvSpPr>
        <p:spPr>
          <a:xfrm>
            <a:off x="324000" y="260280"/>
            <a:ext cx="338436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 환경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내용 개체 틀 2"/>
          <p:cNvSpPr/>
          <p:nvPr/>
        </p:nvSpPr>
        <p:spPr>
          <a:xfrm>
            <a:off x="468360" y="3573360"/>
            <a:ext cx="82296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담당선생님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주일씩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4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명의 선생님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연차순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249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15360" indent="-31536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복 장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가 운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683280" indent="-262800">
              <a:spcBef>
                <a:spcPts val="751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자율복장 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편안한 복장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, </a:t>
            </a: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내화 착용</a:t>
            </a:r>
            <a:r>
              <a:rPr b="0" lang="en-US" sz="30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 습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담당선생님의 스케줄에 따라 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, 2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이동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치료사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인당 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5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~20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명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Observation + FES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물리치료실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 Hot Pack + TENS + FES + Tilt Table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실습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mbria"/>
            </a:endParaRPr>
          </a:p>
          <a:p>
            <a:pPr marL="343080" indent="-343080">
              <a:spcBef>
                <a:spcPts val="751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Cambria"/>
              </a:rPr>
              <a:t>실습과제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논문 번역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최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레포트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케이스 발표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주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1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부제목 2"/>
          <p:cNvSpPr/>
          <p:nvPr/>
        </p:nvSpPr>
        <p:spPr>
          <a:xfrm>
            <a:off x="324000" y="260280"/>
            <a:ext cx="496872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실습내용</a:t>
            </a:r>
            <a:r>
              <a:rPr b="1" lang="en-US" sz="5000" spc="-1" strike="noStrike">
                <a:solidFill>
                  <a:srgbClr val="000000"/>
                </a:solidFill>
                <a:latin typeface="Cambria"/>
              </a:rPr>
              <a:t>&amp;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과제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장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신경계 환자들은 확실히 볼 수 있음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점심 무료 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하철 역 바로 앞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2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호선 두류역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Transfer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하지 않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남자 간병인이 함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marL="305280" indent="-305280">
              <a:spcBef>
                <a:spcPts val="624"/>
              </a:spcBef>
              <a:buClr>
                <a:srgbClr val="d87d3a"/>
              </a:buClr>
              <a:buSzPct val="70000"/>
              <a:buFont typeface="Wingdings 2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단 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환자 케이스 부족 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지나치게 신경계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(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뇌줄중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)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편중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다른 학교 실습생들이 없음</a:t>
            </a:r>
            <a:r>
              <a:rPr b="0" lang="en-US" sz="2500" spc="-1" strike="noStrike">
                <a:solidFill>
                  <a:srgbClr val="000000"/>
                </a:solidFill>
                <a:latin typeface="Cambria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보건대와 대구대뿐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  <a:p>
            <a:pPr lvl="1" marL="660960" indent="-254160">
              <a:spcBef>
                <a:spcPts val="624"/>
              </a:spcBef>
              <a:buClr>
                <a:srgbClr val="466571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Cambria"/>
              </a:rPr>
              <a:t>과제수기</a:t>
            </a:r>
            <a:endParaRPr b="0" lang="en-US" sz="25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부제목 2"/>
          <p:cNvSpPr/>
          <p:nvPr/>
        </p:nvSpPr>
        <p:spPr>
          <a:xfrm>
            <a:off x="324000" y="260280"/>
            <a:ext cx="3743280" cy="936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ko-KR" sz="5000" spc="-1" strike="noStrike">
                <a:solidFill>
                  <a:srgbClr val="000000"/>
                </a:solidFill>
                <a:latin typeface="Cambria"/>
              </a:rPr>
              <a:t>장점와 단점</a:t>
            </a:r>
            <a:endParaRPr b="0" lang="en-US" sz="5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4:17:26Z</dcterms:created>
  <dc:creator>XP_USER</dc:creator>
  <dc:description/>
  <dc:language>en-US</dc:language>
  <cp:lastModifiedBy>Staff</cp:lastModifiedBy>
  <dcterms:modified xsi:type="dcterms:W3CDTF">2009-04-11T08:25:26Z</dcterms:modified>
  <cp:revision>12</cp:revision>
  <dc:subject/>
  <dc:title>병원 실습 발표</dc:title>
</cp:coreProperties>
</file>