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9A2-E90E-44A8-80E7-171FE2883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A8A2-98C1-4856-B416-09F5BF7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20A0-D59E-4468-A0A9-541F3F81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F9F3-5448-47A3-A33B-3B63D7638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AE54-97BA-458E-9AED-4AE2B43E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0BA9-DD2C-4746-8C7E-6DC07FD9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85058-D3ED-4B7F-B457-90878536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1DA6-6EB8-43FF-B0BD-A42665E4C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44871-57C0-45C1-AB07-1DFD77DD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61F1-FE2C-4AD5-BEFD-2F8741917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5B84C-510D-40BB-9AE2-F22C5724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5F04-7389-48A6-9264-5CDDD2BE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72306-8047-4119-9DE4-B6BBFFD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9DF6-2B69-410F-BC29-71BE9F4E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61C9-DC83-4EC6-9B10-9DEFAB41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8AAE-A450-41B6-91F6-9C87FFF3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4CFF0-53D0-4C02-8AEC-3B100EFA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E411-B3EB-416D-A73B-45DBFFB7A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E5BD-FC34-418F-A6FA-10CB1FBC9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F859-B3BB-41AF-8B9F-3692AA66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EAC0-AF00-4A80-814C-36FD6138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9DF-EB5C-4542-B94A-C7443BFF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5729-DEF6-48E2-9986-F4FA573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73DA-0779-4C6E-ACFD-29339F5A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1D3E-EA40-4083-A2FD-A3FDA4D088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A661-91CC-440E-9F41-257BDCCBF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서울재활병원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시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8:4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시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12:30~1:30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퇴근시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6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일 오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 예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치료실은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까지 가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해야한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복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색 면바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흰색 카라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단화 및  운동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실습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습기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총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인치료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.2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소년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증치료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씩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otation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시에 교육이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균 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정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숙박 – 근처 고신원 가격대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략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0~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심 – 병원내 직원 식당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달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Report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본 주마다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그 외 파트마다 선생님이 내주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4:02:00Z</dcterms:created>
  <dc:creator>SEC</dc:creator>
  <dc:description/>
  <dc:language>en-US</dc:language>
  <cp:lastModifiedBy>SEC</cp:lastModifiedBy>
  <dcterms:modified xsi:type="dcterms:W3CDTF">2009-04-09T04:09:25Z</dcterms:modified>
  <cp:revision>2</cp:revision>
  <dc:subject/>
  <dc:title>서울재활병원</dc:title>
</cp:coreProperties>
</file>