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D7C-D370-4D81-ADF9-1609D38F4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F97E-EB25-48E2-9F39-8EC0D99F4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BA77-D787-402C-AEA8-47D4F30E6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26D6-0CDE-4E1B-A718-603C6897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9E7-C7DD-4C5A-8079-7F17E01A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25B9-78FD-46A9-B660-59F2EC26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B4BC-6066-472B-8F60-9CFEA8226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BE6-EDF0-4114-9D63-E64EB6984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31A2-9262-48D3-9477-43F25F6D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0AEF-B3FD-4AE9-A603-FB7F3BFE6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9BC-6EF0-47BE-9295-6A18643E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112E-FF83-404E-B386-159912C4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6901-E9DB-4694-BDB0-C2326BD0A709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경상 병원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과 노인병원 두 곳을 돌아가면서 실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병원 각각 운동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작업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통증 치료실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곳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경상병원의 운동치료실과 통증치료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노인병원을 각각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씩 돌아가기 때문에 총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에서 어디에서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주를 할지 모름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통편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셔틀버스이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버스이용은 힘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복장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가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면바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슬리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머리 단정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무시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월 달은 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금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5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점심시간은 경상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노인병원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~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식비는 공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소개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상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습담당선생님이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옆에 서서 관찰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환자를 맡기지 않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transfer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도 안함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담하는 관리사가 있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기계사용 못하고 정리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대구대 졸업선배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선생님이 하루씩 돌아가며 실습생 맡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운동치료실과 통증치료실이 한 공간에 있으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학생은 관찰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만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치매환자분과 상황극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연차 제일 높은 선생님이 대구대 졸업선배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레포트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상병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운동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인데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OA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로 대신하기도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통증치료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노인병원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일 하나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두 곳 다 특별한 강의는 없음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마지막 주에 정해준 논문 번역 발표함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보건대 출신쌤이 많아서 잘 챙겨주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 케이스가 많이 부족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계 편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환자를 직접 만질 기회가 없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다른 공부 하고 싶은 분 추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널널하게 실습하고 싶은 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과제 검사 까다롭지 않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9T03:21:46Z</dcterms:created>
  <dc:creator>경상대 컴퓨터실 프린터</dc:creator>
  <dc:description/>
  <dc:language>en-US</dc:language>
  <cp:lastModifiedBy>Staff</cp:lastModifiedBy>
  <dcterms:modified xsi:type="dcterms:W3CDTF">2009-04-11T08:04:56Z</dcterms:modified>
  <cp:revision>3</cp:revision>
  <dc:subject/>
  <dc:title>경상병원</dc:title>
</cp:coreProperties>
</file>