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B631-40B6-4DED-935A-22407C0B5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9627-B929-4E5F-B20A-88E8F511E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726-6BC0-4BFB-B62C-378AB8D9B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67B1-D565-4E55-8A73-A7623CAD5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5AD3-DABC-4F08-AA99-53837765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E9D8-0CCA-4063-A57D-316E6EDA7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4960A-9846-4D2B-A6BD-71EA45752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73094-40BD-4443-8248-D84F6BF8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E2C1-6B10-4A79-B0D8-EE49E120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C10EE-66BD-4407-8878-2ED33052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CDEC-89A9-411F-B184-91F0BCCB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E5F-3E1A-4067-BBC7-60830D2C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6E34A-674D-4B6E-A8A8-C22F88245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F1CB-C23D-483C-920F-2BF7DB244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C744-8ED2-4D4C-B8E1-12316616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795C4-4435-4EE3-9AB7-F18FD485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296136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74200" y="304956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84888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296136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074200" y="4283640"/>
            <a:ext cx="201168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AA5DA-3156-4FA8-9F36-1C9C388A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4E38-AA0C-472D-B0E6-0B7A2DE8A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2418-6FD0-4293-88F6-0DB8716B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EF30-1697-49E0-B04F-E61E32D6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316080" y="466200"/>
            <a:ext cx="6781680" cy="9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3123-0A6A-4D48-BE59-2AE22469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EA54-5149-4A8F-AE16-EA101CC59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23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051080" y="428364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15A4-6D60-4484-AD2E-7A3EFC18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488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051080" y="3049560"/>
            <a:ext cx="304920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48880" y="4283640"/>
            <a:ext cx="6248520" cy="112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17BF-17AE-4387-9D50-F395B616C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F48D-1597-44A2-BE93-A4F29C7761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7AD8-ECE8-4AFF-9400-B752F98E0C2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굴림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0066"/>
                </a:solidFill>
                <a:latin typeface="굴림"/>
              </a:rPr>
              <a:t>동산 의료원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굴림"/>
              </a:rPr>
              <a:t>06’ </a:t>
            </a:r>
            <a:r>
              <a:rPr b="1" lang="zh-CN" sz="3200" spc="-1" strike="noStrike">
                <a:solidFill>
                  <a:srgbClr val="000000"/>
                </a:solidFill>
                <a:latin typeface="굴림"/>
              </a:rPr>
              <a:t>김예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09.2.2~2009.2.20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위치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구광역시 중구 동산동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194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물리치료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- 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하철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호선 서문시장역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번 출구 서문시장방향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보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분 거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826920" y="2997360"/>
            <a:ext cx="360360" cy="215640"/>
          </a:xfrm>
          <a:prstGeom prst="rightArrow">
            <a:avLst>
              <a:gd name="adj1" fmla="val 50000"/>
              <a:gd name="adj2" fmla="val 4177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물리치료실 환경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시설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도구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이 오래됨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치료사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평균연령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30~40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4:4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정형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신경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3)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소아계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로 구성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복장 자유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흰 셔츠나 흰 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명찰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머리는 단정히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출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늦어도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까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사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~ 1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식권 한 장에 천원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퇴근시간 –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(4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에 도서관 보냄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토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일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공휴일 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200" spc="-1" strike="noStrike">
                <a:solidFill>
                  <a:srgbClr val="330066"/>
                </a:solidFill>
                <a:latin typeface="굴림"/>
              </a:rPr>
              <a:t>병원 생활</a:t>
            </a:r>
            <a:endParaRPr b="1" lang="en-US" sz="5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조 나누어 오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오후로 도서관에서 개인시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공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과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가짐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질문 거의 없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그냥 치료 하는 것 보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뒷정리하고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키는 일 하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주일마다 환자 정해서 차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작성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국내논문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6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개 요약 발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치료사의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lecture 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금요일 아침에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Conference(8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1" lang="zh-CN" sz="2600" spc="-1" strike="noStrike">
                <a:solidFill>
                  <a:srgbClr val="000000"/>
                </a:solidFill>
                <a:latin typeface="굴림"/>
              </a:rPr>
              <a:t>분까지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330066"/>
                </a:solidFill>
                <a:latin typeface="굴림"/>
              </a:rPr>
              <a:t>감사합니다</a:t>
            </a:r>
            <a:r>
              <a:rPr b="0" lang="en-US" sz="7200" spc="-1" strike="noStrike">
                <a:solidFill>
                  <a:srgbClr val="330066"/>
                </a:solidFill>
                <a:latin typeface="굴림"/>
              </a:rPr>
              <a:t>.</a:t>
            </a:r>
            <a:endParaRPr b="1" lang="en-US" sz="72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0:13:27Z</dcterms:created>
  <dc:creator>g]</dc:creator>
  <dc:description/>
  <dc:language>en-US</dc:language>
  <cp:lastModifiedBy>경상대 컴퓨터실 프린터</cp:lastModifiedBy>
  <dcterms:modified xsi:type="dcterms:W3CDTF">2009-04-09T03:28:07Z</dcterms:modified>
  <cp:revision>19</cp:revision>
  <dc:subject/>
  <dc:title>Welcome to 꿈동산</dc:title>
</cp:coreProperties>
</file>