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4D1-559A-4A1C-9F53-06EE969D2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FAD-CACA-42F8-8AD0-90B038EDB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CF90-204F-49E3-8B79-0E1C331B9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C6BE-F984-4EC1-9437-F0D0EFC6E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823A3-0FA3-4B51-9208-B6A0AF8D2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FD53E-EFF4-474A-B6BF-71A5BBE8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38C19-DD21-4B79-BE2C-264608BD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D56E-6A6A-440E-AB8A-C5BD7FBA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CE673-8440-4895-839C-FF47CB02C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B25CA-12A6-4546-B653-D0B9D4A51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D6F60-E40C-4558-BF75-D76450C6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3EF-6043-4210-B4C5-C205A1E8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3ECB-598E-4E4D-ABCB-B2FDAE46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A834-AF94-4902-9F89-9C4192073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2BE20-DF36-4F2C-B077-C1D83657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40747-6B42-489D-A7FD-1AACF75CC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F087-9613-4BD3-96E8-6C6A44BF4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ABE3-407E-49B6-B83F-5698E145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A1EC-9D4C-4025-B748-95739A917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16A3-14BC-4FBA-8B71-7376F020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3E36-9D71-4EF6-92BF-1C924ADA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A272D-8916-4BDB-ADFF-BB8C5C73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3A01-CB12-4E62-A3C6-8F68A3F5B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91C-394A-46B3-9170-ECAA9AD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3F78-18B7-4965-9FB9-729C996CD1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5803-FFF4-4588-8631-822A603DB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hmc.or.kr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경희 의료원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ccff"/>
                </a:solidFill>
                <a:uFillTx/>
                <a:latin typeface="굴림"/>
                <a:hlinkClick r:id="rId2"/>
              </a:rPr>
              <a:t>http://www.khmc.or.kr/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Time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7:50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1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 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퇴근 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5:0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conference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:30am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까지 출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zh-CN" sz="4000" spc="-1" strike="noStrike">
                <a:solidFill>
                  <a:srgbClr val="e5ffff"/>
                </a:solidFill>
                <a:latin typeface="굴림"/>
              </a:rPr>
              <a:t>실습생이 지켜야 할 사항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시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시간 끝나기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전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근 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modality setting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의 단정 하의 면바지 신발 구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남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의 바르게 환자에게 친절하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System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onference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금요일 아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tudy 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회진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:30p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Case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주일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번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 지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운동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치료 아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방 수기 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          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Bobath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기타사항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점심 식사 –식권 판매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일치 만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숙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경희 의료원 앞 고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격 차이가 大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4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~2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repor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쌤 마다 다름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03:37Z</dcterms:created>
  <dc:creator>SEC</dc:creator>
  <dc:description/>
  <dc:language>en-US</dc:language>
  <cp:lastModifiedBy>SEC</cp:lastModifiedBy>
  <dcterms:modified xsi:type="dcterms:W3CDTF">2009-04-09T03:44:31Z</dcterms:modified>
  <cp:revision>3</cp:revision>
  <dc:subject/>
  <dc:title>경희 의료원</dc:title>
</cp:coreProperties>
</file>