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A371-F7AE-4A94-A0F6-124F302AC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8628-8F2A-415B-9D98-279F1FF50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7030-095B-4EB9-BE3B-CC10A7B24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26F3-5BB8-47C4-98AF-2E24C6E5D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A71CE-FB47-47A7-90C0-D765CCE5E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0A6AB-E261-41B6-B143-11CFD6D0C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5F9BB-7CB4-4E5F-9FF3-9181CA51A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8C3DA-B9F7-4185-8345-F35D7FD90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F1D37-E0D4-4BA0-9FB1-FCE03134B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E8B51-DE28-4078-AE40-64706F6D8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A5AAB-F7F7-4AE1-8F26-2EECA4BF8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B38D-F10A-4936-8751-02E6051FE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20B68-B5C8-4F5F-96C1-5E03BCEE5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7C75E-BDEC-4BD3-A29E-623755CE5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7B68B-0F0E-4DC8-84E6-E76AA2F79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30882-3C32-4901-B8A4-2360B4CD9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2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3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CAEFA-7EA9-4E50-A890-1FE999635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3EEC-E923-49E8-9EB3-104C5BF54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8492-03E3-41A4-8711-5E9A1D58E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5DE3-FF75-470F-8E15-7EE4A89EE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40BB-9D79-429C-B7B3-05D513583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A8A27-44E8-4C9A-9336-18D2388D8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5DE9-247B-4E7B-A2E2-5E612A2BF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92D4-04D0-4476-AB50-B453FB709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2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2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43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84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125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166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207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232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233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234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275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316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357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398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439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sp>
        <p:nvSpPr>
          <p:cNvPr id="464" name=""/>
          <p:cNvSpPr/>
          <p:nvPr/>
        </p:nvSpPr>
        <p:spPr>
          <a:xfrm>
            <a:off x="914400" y="1214280"/>
            <a:ext cx="7202520" cy="0"/>
          </a:xfrm>
          <a:prstGeom prst="line">
            <a:avLst/>
          </a:prstGeom>
          <a:ln w="28440">
            <a:solidFill>
              <a:srgbClr val="8d92c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99"/>
              </a:spcBef>
              <a:buClr>
                <a:srgbClr val="a8ba74"/>
              </a:buClr>
              <a:buSzPct val="9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99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C996F-B97B-496A-91A0-963EBE83A110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507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508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48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549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590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30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631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71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672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12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713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738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739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740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781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21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822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62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863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03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904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44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945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970" name=""/>
          <p:cNvGrpSpPr/>
          <p:nvPr/>
        </p:nvGrpSpPr>
        <p:grpSpPr>
          <a:xfrm>
            <a:off x="533520" y="1903680"/>
            <a:ext cx="8218440" cy="2060280"/>
            <a:chOff x="533520" y="1903680"/>
            <a:chExt cx="8218440" cy="2060280"/>
          </a:xfrm>
        </p:grpSpPr>
        <p:sp>
          <p:nvSpPr>
            <p:cNvPr id="971" name=""/>
            <p:cNvSpPr/>
            <p:nvPr/>
          </p:nvSpPr>
          <p:spPr>
            <a:xfrm>
              <a:off x="533520" y="2819520"/>
              <a:ext cx="4103640" cy="114444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eddee"/>
                </a:gs>
                <a:gs pos="100000">
                  <a:srgbClr val="d7add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sp>
          <p:nvSpPr>
            <p:cNvPr id="972" name=""/>
            <p:cNvSpPr/>
            <p:nvPr/>
          </p:nvSpPr>
          <p:spPr>
            <a:xfrm flipH="1" flipV="1" rot="21597600">
              <a:off x="4571280" y="1904760"/>
              <a:ext cx="4179960" cy="122400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d92c3"/>
                </a:gs>
                <a:gs pos="100000">
                  <a:srgbClr val="d0d2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1DC1A-BAF1-4E88-A3EE-7D9CF9BA7601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601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치료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p243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력 및 근피로 지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호기성 대사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젖산생성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맥순환의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펌프 작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림프순환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인접조직의 유착방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경직 방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흥분성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종류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자극의 종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직류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DC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low sinusoidal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E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간섭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C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E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기자극 치료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(EST)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는 신경재생에 아무런 효과가 없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마비된 근육의 수축 감각을 잊어버리지 않도록 하는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근의 자극조건 </a:t>
            </a:r>
            <a:br>
              <a:rPr sz="3600"/>
            </a:b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차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한축삭절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등사변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6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축삭절단 및 신경절단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톱니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2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재생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분 탈신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빈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0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-25pp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일반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통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0-2,000m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긴 통전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간 간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기간보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-3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 이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용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-2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강한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을 신장시킨 자세에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예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0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로 변성근을 자극할 수 없는 이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손상 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까지는 가능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후에는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-200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필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단속직류전류나  정현파 전류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-25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빈도로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 전기자극의 위험 및 문제점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와 근육통이 문제점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위 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화상과 화학적 화상 발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쇼크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와의 접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 전기자극의 금기증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1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부종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 손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각마비 부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성종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증 및 혈전성 정맥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금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확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린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노인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사전달문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원인불명통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용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탈의 지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청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름기 제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창상 및 박리된 부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바셀린으로 절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신장은 금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를 따뜻하게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  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극 연결 및 접촉이 견고한지 확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패드를 따뜻한 물에 담근 후 짜내고 충분히 가습함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극부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비활성전극면적이 넓은 전극부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의 근 수축에 방해가 되지 않는 무위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면적 같은 두 전극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기시점과 정지점에 적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군 자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같은 크기의 큰 패드 이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 재교육식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특징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전기자극의 목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muscle atroph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생의 예방이나 진행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과 이완에 의한 혈액순환의 증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재생이 지연된 환자의 정신적인 안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내 구성 단백질성분의 감소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장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extensibilit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같은 조직변화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마비환자의 근수축 감각 유지 </a:t>
            </a:r>
            <a:br>
              <a:rPr sz="2800"/>
            </a:b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험되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수축이완을 수반하는 경도의 따끔따끔 쑤시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priking sensation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이 유발되도록 전류강도를 서서히 올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한 근육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근수축 유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도하게 자극하지 않도록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종료 시 전류강도를 서서히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으로 내린 후 주 전원 스위치를 끈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의 피부 점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치료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 특성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응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추신경계 손상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하위신경원 질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기간 고정 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관절가동범위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련성 완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길항근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동근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각훈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강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력 강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MCV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0-60%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50-90pps,  0.0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～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.5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재교육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pps, 0.05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추 측만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만곡 안에 전극 부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5pps, 220μ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8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류량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4-32pps, 0.1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-30%, MCV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뇨장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보장구 대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극성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활성전극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CCC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순응이 일어나지 않도록 자극해야 한다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 밀도가 중요하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강도의 제곱에 비례하고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극의 단면적에 반비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선택의 범위가 다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도 다양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화속도가 너무 느리거나 빠르면 부적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50-200Hz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 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환자의 느낌에 따라 조절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급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apid 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빠른 변화속도의 직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 form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지배근의 전기자극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근섬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백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 더 민감하게 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로 최소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 이상 장기간 자극해야 변화된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단백질 마이오신과 트로포마이오신의 변화에 의한 것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미토콘드리아의 산화효소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NADH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활성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a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의 글리코겐을 고갈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시간 자극시 호기성 대사를 증가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호기성대사가 우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 지구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에 대한 저항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리보오솜에서 단백질 함성능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아세틸콜린 감수성의 저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 속도가 느려진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 분포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의 온도 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기능적 부하가 되어 근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Ⅱ형인 큰 운동신경원들이 먼저 흥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수의적 수축 시와 반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되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사빈도가 높고 지속적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에 의한 근력 증가와는 다른 기전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9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 둘레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지배신경근의 전기자극 목적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생리적 활동의 회복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액과 임파액의 순환증진 및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유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adhesion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성의 예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정상적인 근경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pasm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재교육 혹은 마사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원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 손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병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HNP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근종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염성 신경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독성 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포착성 신경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근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골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토요일밤의 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골간신경 압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중압좌증후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각세포 병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소아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행성 근위축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수공동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성 측색경화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다발성근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증 근무력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신경지배근의 전기자극 종류의 자극조건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이 매우 제한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완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변화속도의 직각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성근의 강축 유발은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-10Hz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)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전기자극기의 종류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aradic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msec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고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단 및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파를 변형시켜 사용하기도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많이 사용하지 않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조시켜 근경련 감소나 통증완화 목적으로 사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각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많이 이용되는 저주파 치료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간의 변화속도를 조절 가능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-100Hz, 0.1-1,000msec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범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혼합형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mixed typ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등을 치료목적에 따라 혼합 또는 단독으로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과 근육을 자극하기 위한 조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by Dubois-Reymond &amp; Nernst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강도의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**Dubois-Reymond' Law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 자극시 전류의 변화 속도에 대한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변화속도가 빠를수록 낮은 강도의 전류반응을 일으킬 수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변화 속도가 느리면 → 신경순응 → 역치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시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상 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온의 화학자극으로 피부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시간적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대칭이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자극은 작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학적 효과가 거의 없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군 자극에 해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교대 대칭성 이상파 – 두 전극에서 흥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축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20-35pp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을 약간 신장시킨 상태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 기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200-500μ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효율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증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가동범위 증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수축 근 재교육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 치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중등도의 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사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ramp or surg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강도로 도달하는 시간 짧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응하기 때문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행 훈련시 빠르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이나 구축 치료 시 느리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속 시간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on-off ratio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1 - 1: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피로 줄이려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-1:5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-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극부착 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작은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전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전극의 크기가 동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origi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insertio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위에 부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군자극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군의 재교육식 사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의 일종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치료시 문제점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가 피로를 덜 일으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이상 자극을 해야 감소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시간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: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효과적인 조절 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 전기치료의 금기증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넓은 개방성 상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습진이나 건선 등의 피부질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ection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나 염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lammation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부 정맥 혈전증이나 동맥경화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감각의 저해나 상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이나 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장박동조절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cardic pacemaker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착용 중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성 정맥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thrombophlebit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너무 고령이거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에게는 주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표면 가까이 금속이 있는 경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특성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denervated atrophy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무게 감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무게 감소는 신경손상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달 안에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지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결합조직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직경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횡단면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은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b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고정으로 인한 불용성 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generation):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손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후부터 시작되어 수개월간 진행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펌프작용 불량 → 장기간 근육내 혈관정체 → 혈액공급 장애 → 근 퇴행성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에 대한 감수성 높아서 쉽게 손상됨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조직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TP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인 경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type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에서 높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SDH(succinate dehydrogenas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ADH-TR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lkaline phosphat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reatine, ATP, 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ollagen, chloride, sodium, calcium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단백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후기 근육 단백 농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조직의 총 단백량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위축된 근섬유가 각을 형성하여 집단으로 출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간질조직의 증식과 근형질의 위축으로 핵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초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원섬유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접합부의 통합 파괴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체적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절수 및 길이의 변화는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세동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illation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발적 비협응적 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세틸콜린 과민반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과민반응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기간이 짧은 감응전류에는 반응하지 않고 맥동기간이 긴 단속직류전류에 느린 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치 상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근 시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m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긴 통전시간으로 자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ms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극성곡식의 반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평류강축비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흥분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연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강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근피로 지수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절반이완시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시간  길어짐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손상부위 아래 운동 및 감각마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영양성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세망에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a2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포막에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정막전위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막통과 저항 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피질의 탈칼슘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calcification)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다공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⒂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건 인대의 불용성 섬유증과 유착 → 운동장애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효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위축의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형의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높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Ⅱ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Ⅰ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효소활성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ATPase, NADH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백질합성능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류량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화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2T03:59:14Z</dcterms:created>
  <dc:creator>win xp</dc:creator>
  <dc:description/>
  <dc:language>en-US</dc:language>
  <cp:lastModifiedBy>win xp</cp:lastModifiedBy>
  <dcterms:modified xsi:type="dcterms:W3CDTF">2005-03-21T16:20:09Z</dcterms:modified>
  <cp:revision>5</cp:revision>
  <dc:subject/>
  <dc:title>탈신경근의 전기자극치료 p243 </dc:title>
</cp:coreProperties>
</file>