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40B9-7B5D-4982-B964-158D5CFD1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F53E-8AFA-4C18-9B1B-CAB61C086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8687-B63D-40F6-981A-1DE57A1C2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DE62-9E50-49EA-975E-0C8108C09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A2675-C175-4942-B3D2-2301C32D2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39AFC-0149-4424-8E21-5B3678C85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98504-C9AC-4510-825E-16C575787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EBC22-3C97-4368-8C51-129BD3167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2422E-C733-402C-A226-8771C4EFF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BE32F-E58E-45AA-AD19-EEB3F0DA6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CE8D7-8107-40DB-B025-0B8F73DD9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BA7A-0ED0-44EF-8FFA-852DF5335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741D6-37E2-484C-B320-B343767BC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94550-2C2B-43BA-8BB2-B15975819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4569E-D1A8-4E91-889C-177338255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FC9C9-EC65-4259-A57D-368D1DFAE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EAA22-EAAF-43D9-8B3E-7133A91EC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03A1-FFB8-41A5-B9B0-807E4E02A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CB20-0847-49ED-A420-C01E1B4BC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6703-976A-4014-8A16-CFA2D4567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1FC8-E9EF-4EB2-BB9C-41084BAE7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B3BB-E346-4E39-973B-C63CC3909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E7DE-6B05-4631-A741-1E7436FAB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6DFA-8848-4091-8F90-B3C71A899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2D918-C5F6-4504-A2F2-3E8AA5B0EA85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F7055-27CF-4D43-9AA7-EC3F18001431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장 학습장애아 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념과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10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1.7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통 이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환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low achievemen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7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반복 학습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slow learner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e5ffff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의 이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좌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선형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계적과 체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논리적과 계획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청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실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우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종합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무선적과 비형식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직관적과 우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상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두뇌의 미세 기능 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차이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인지적 결함의 오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인 원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처리의 한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인 영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특수아동 출현율 중 가장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학습장애의 분류 및 특성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의 유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정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쓰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말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듣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셈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0%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 읽기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동적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진단 평가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특수교육진흥법에서는 학습장애를 진단 평가하는 도구로는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2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초학습기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3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학습준비도 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4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지각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5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각운동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6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각운동통합발달검사 등을 제시하였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진정한 평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수행평가와 교육과정중심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Authentic Assessment: ‘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실제’의 생활에서 읽고 쓰는 능력을 가장 밀접하게 사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속적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수학습에 정보를 제공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과정에 통합되어져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달에 있어서 적절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자아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평가를 인식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활동적인 협동학습이 가능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참고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Fuuntas &amp; Pinnell, 2001, p.484)  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습의 필수조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주의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중재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동기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효과적인 교수활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읽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쓰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난독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질문하세요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484360" y="1916280"/>
            <a:ext cx="417528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03:52:24Z</dcterms:created>
  <dc:creator>.</dc:creator>
  <dc:description/>
  <dc:language>en-US</dc:language>
  <cp:lastModifiedBy>f</cp:lastModifiedBy>
  <dcterms:modified xsi:type="dcterms:W3CDTF">2007-04-05T02:46:59Z</dcterms:modified>
  <cp:revision>8</cp:revision>
  <dc:subject/>
  <dc:title>제 5장 과학교육과정</dc:title>
</cp:coreProperties>
</file>