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C7DEA-3044-417E-9EE9-461592774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81EA9-2BB7-46A8-A814-B301F2EDD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54EBA-515E-4990-876B-2A11A1D61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26523-13EA-407D-9A55-21A717537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46E5E-9AC8-4EF8-B0EF-764302452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7E100-5DCB-47CD-ABE7-AAC063D0E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689B5-B233-404E-9E85-C9911C6B5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71706-F588-47C1-98E9-2BB96A19C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DF66B-937F-4813-B7A6-61C16C1B1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061E5-16B2-4067-824D-50A73701D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E7C04-CA07-4C58-85AB-6389CD34E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92AE0-88B7-4D59-B200-405EF3AF4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5DF80-F5BD-4C88-B450-E2C4F66B5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4C3FB-6D20-4A65-9FC1-FF030FF2F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F1604-8E0F-4FF7-A216-E6A1AD5F7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63EBD-31D7-4831-912D-4539868BE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FF861-0577-4855-B409-7FBC187CE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D3748-4987-4FA1-9D65-B9C8CB73D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2807C-C685-4EE0-B975-2C6778B12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1F758-509D-4613-81DF-8B7CBA56B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7D9DE-84BE-4AE2-8502-C465C3D45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85ECE-D539-4CA2-9D7D-3D10202C0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6995F-6AE6-4421-A617-D7EB3D085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C2BAA-E9E4-4FA7-9336-CAEAFAF69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73C57-C3F3-4ED1-B0B4-952D96539AF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D0136-747A-4063-8BB0-4029A9FB25C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ef6"/>
                </a:solidFill>
                <a:latin typeface="굴림"/>
              </a:rPr>
              <a:t>도료의 종류</a:t>
            </a:r>
            <a:br>
              <a:rPr sz="4400"/>
            </a:br>
            <a:r>
              <a:rPr b="0" lang="en-US" sz="32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dfdef6"/>
                </a:solidFill>
                <a:latin typeface="굴림"/>
              </a:rPr>
              <a:t>특수도료</a:t>
            </a:r>
            <a:endParaRPr b="0" lang="en-US" sz="32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를 제어하여 정보를 관리하고 안전을 보장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성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Fe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Cr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Fe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 주성분인 금속성 분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 수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첨가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테이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오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컴퓨터 테이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디스크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로피 디스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카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신용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도승차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기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속도로 통행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화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드럼 등과 같은 자기기록 매체 분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자성도료 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화합물의 열분해에 의한 불가역적인 색의 변화를 이용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온도의 변화에 따라 색이 변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특정온도에 따라 색의 변화가 뚜렷한 화합물이나 용융에 의해 상태가 변하는 화합물이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코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니켈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크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납 등이 이용되며 사용되는 화합물의 성분 중에는 아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암모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탄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브롬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산기를 함유한 것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식품의 안전 관리를 위해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시온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열이나 전자파 조사에 의한 도막 경화과정 중에 수백 마이크론 정도로 부풀어  입체감을 나타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미끄럼 방지 효과와 큐션성을 기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로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화도료는 발포용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착색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로 구성되며 방화성능 향상을 위해 인산을 주로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피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성수지 와 같은 소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포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 및 라디오파 차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대전방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표면오염 방지에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기기의 경량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단순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에너지 주파수 분포의 고밀도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플라스틱 재료 이용의 확대 등이 이루어짐에 따라 더욱 효과적이고 종합적인 개념의 전자파 차폐기술이 요구되며 이 때문에 전자파차폐 도료가 주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장비에 주로 사용되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전기 장해방지용 포장재료 이용을 위한 연구가 진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도전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81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해가스의 발생을 동반하는 연소의 진행을 막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가연성인 경우 기재의 난연화가 목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발포성 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불연성인 경우 도막의 단열작용으로 기재의 열 노화를 방지하여 가연물로 인한 연소를 방지하는 것이 목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초산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크릴 등의 난연성 바인더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산화 안티몬과 같은 난연조제물를 첨가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완전 불연성도료는 무기질바인더에 무기질 안료를 배합시킨 것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화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제어를 통해 기술적으로 방음을 할 수 있도록 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방음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전달경로에 벽을 세워 음을 반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단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흡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에너지를 흡수하여 소멸시키거나 작게 만드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원인을 억제 함에 의하여 음의 발생을 억제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제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어떠한 진동에 의해 발생되기에 진동을 차단하거나 흡수함에 의해 음의 방출을 감소시키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통기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확청장치나 악기연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학교나 유치원에서의 어린이 소리 등을 제어하는데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음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청강 등의 구조재에 손상을 입히는 녹을 방지하기 위해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불소수지도료와 세라믹도료가 각광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에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으로 도막수명을 연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세라믹도료의 경우 세라믹 안료와 알키드수지 또는 염화고무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관을 통해 전달되는 진동에 의한 소음을 방지하기 위해 적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스팔트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폭시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탈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멀션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계 등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두꺼운 도막을 형성하기에 다량의 충전제가 첨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석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 등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탄산칼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활석 등이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빌딩의 수도관이나 가스관에 적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량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축 및 그 밖에 여러 분야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진도료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12Z</dcterms:modified>
  <cp:revision>69</cp:revision>
  <dc:subject/>
  <dc:title>목질재료학 및 실험</dc:title>
</cp:coreProperties>
</file>