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716C7E-992C-442D-AF4F-0A6827884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50A901-3F44-4199-AA0F-C83776B5D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D642CB-EDE3-4836-9486-02AFBAC9F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52A4B2-5200-4755-97E5-A9DB119B2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6EB3D-7EF5-41DA-A525-B10124A0B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EDC1D-0816-4B9F-9325-B17DC826A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14228-1C79-41A5-ADF2-B3B109748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1DB09-205F-49DF-BDB9-7F25080A2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A1205-B5D9-4CFA-AD91-319733801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1BA45-F14A-404D-829E-4469234CB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4A299-BC49-44A8-8E1D-BBDC6E592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4E11B0-2EEB-4234-8489-8BFB4B279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69083-0839-422F-A886-8E4B25B31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DD588-0309-4BD8-B7CB-334D7F011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F499A-7239-4722-A7C1-E7708FFD9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3B188-3F64-47EC-B8C1-18FDE3D3D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151E3-342C-4173-979A-798982D2E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8132A7-1A3F-4639-8101-E3E95B887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A4CE09-1524-4675-9DB2-2FF4FD4CB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F2D2A9-F4C3-4C71-A462-568EB6000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2F5C82-E9C5-42B7-8625-3858627A3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26E447-0E7F-4AC1-9BBF-7B9E61AA3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5D5AE0-07D6-4E6D-8533-DEB167ADD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6C962A-C0C5-46FE-BDFC-70392BECE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6339F-7ABE-4C2F-83AE-B51177B93224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65827-48AC-4870-82AA-AEF19C78EF79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S S P </a:t>
            </a:r>
            <a:r>
              <a:rPr b="0" lang="zh-CN" sz="5000" spc="-1" strike="noStrike">
                <a:solidFill>
                  <a:srgbClr val="ffffff"/>
                </a:solidFill>
                <a:latin typeface="굴림"/>
              </a:rPr>
              <a:t>치 료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376280" y="0"/>
            <a:ext cx="6392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893080" cy="68691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219640" y="566100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7d"/>
                </a:solidFill>
                <a:latin typeface="굴림"/>
              </a:rPr>
              <a:t>경부 통증 유발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893080" cy="71308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4500720" y="0"/>
            <a:ext cx="42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어깨 결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388360" cy="68454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95280" y="40464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오  십 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3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4360" y="0"/>
            <a:ext cx="6983280" cy="693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7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1144440"/>
            <a:ext cx="9144000" cy="45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539640" y="-42840"/>
            <a:ext cx="7993080" cy="68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SSP(silver spike point electrode):</a:t>
            </a: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은도금한 삼각 원뿔 모양의 전극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needleless acpuncture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의 분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표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이개용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흡인식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L: 100-140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약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M:145-195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H: 260-300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의 전류분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압박력에 비례하여 전류의 흐름이 많아짐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원추의 중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고밀도 통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SSP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와 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TENS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의 차이점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개발의 유래가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SP –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침 마취를 통해 발생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ENS –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관문조절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점이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효과점을 지향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동통 국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지배에 의거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모양이 다르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전방법이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저빈도 저주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중간 혹은 고빈도 저주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의 장단점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장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⑴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환자에게 안도감을 준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⑵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쾌적한 자극으로 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⑶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어린이 치료에 알맞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⑷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과민증 환자에게 적용이 편리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⑸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극강도를 적절히 조절할 수 있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⑹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부작용이나 합병증이 없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⑺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유로운 자세에서 치료가 가능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⑻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수단이 용이하고 치료방법이 간편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단점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체모가 많은 부분에 부착이 어려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적용 기술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일반적 적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⑴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점의 선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경혈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반응 양도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압통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발통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운동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말초신경 경로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환측의 반대측 건측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거자법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학적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point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⑵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선택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극성에 따른 차이가 없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체 부위별 자극의 감수성을 도려해야 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파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방향성 대칭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위상가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50-15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㎲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최근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는 맥동폭은 좁게 전압은 높게 설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기저항을 낮추기 위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방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연속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지속적 통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간격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속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소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혼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서로 다른 주파수를 교대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중 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Trimix)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Random TRM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세가지 주파수를 임의로 발생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weep TRM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한가지 주파수를 단계적으로 변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4800600"/>
            <a:ext cx="76320" cy="685800"/>
          </a:xfrm>
          <a:custGeom>
            <a:avLst/>
            <a:gdLst>
              <a:gd name="textAreaLeft" fmla="*/ 22320 w 76320"/>
              <a:gd name="textAreaRight" fmla="*/ 76320 w 76320"/>
              <a:gd name="textAreaTop" fmla="*/ 28440 h 685800"/>
              <a:gd name="textAreaBottom" fmla="*/ 6573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주파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침술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1Hz, 3Hz, 5Hz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의 저빈도 주파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연속 통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저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내인성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morphine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성 물질 유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중간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0-49Hz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고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50Hz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이상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소밀통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고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½Å¸íÁ¶"/>
              </a:rPr>
              <a:t>A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δ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및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C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섬유의 전도 차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적응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진통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마취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순환개선 및 조절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항 종창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마비 개선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암시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소화관 안전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가골형성 촉진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금 기 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피부염 등으로 전극을 설치할 수 없는 경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인공 심장기 착용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심근 경색 등 중증 심장질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뇌혈관장애 직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열이 있을 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임신 초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8T08:51:36Z</dcterms:created>
  <dc:creator>win xp</dc:creator>
  <dc:description/>
  <dc:language>en-US</dc:language>
  <cp:lastModifiedBy>win xp</cp:lastModifiedBy>
  <dcterms:modified xsi:type="dcterms:W3CDTF">2005-04-29T20:09:15Z</dcterms:modified>
  <cp:revision>13</cp:revision>
  <dc:subject/>
  <dc:title>SSP, MC, FES</dc:title>
</cp:coreProperties>
</file>