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FA473-51D5-4D03-82B5-A1BCD432C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CCB4B-71BB-4C32-8C42-5970D8C75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2DE15-A9AA-4A00-937E-18FE37CB4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28B61-CEE9-4F18-ACF1-7DDFAFB75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3224C-1BEE-4A15-9608-C326397A3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63202-A02B-4825-871E-448A1E240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AD717-9714-4204-A2FA-E95064873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1E143-E85D-4749-A7C8-E82BF2493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3B15B-3CAD-4650-90FF-AFC53D8C8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BDB6A-C4DB-4300-BC5A-074D92274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F9425-64B6-41EB-B1E4-1CB2FFA08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F8AC7-A507-4354-BE13-393A2AFF9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53F5B-1683-4271-BD89-62EA26B8D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75A1D-2922-4583-8BE6-6987A10DB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F693F-6A04-4E33-AE86-EDD518E79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4A934-5AF8-4F41-BC14-3B7D6A2AD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E01B5-BE3E-4AE4-987D-EB9B245A1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AD331-07B6-408F-9190-FA66F88FD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A107B-CAC5-488C-A90B-2EBA47027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D2E45-E161-45A8-9AF9-B65E0074C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4F6CB-ED44-4187-A32B-5BE132331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72F87-9385-446D-A237-7EA0AC509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12797-6C6E-4D44-9EE1-260B673AF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6EE9B-1512-455C-94E6-2B70D0325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DB2FA-0B50-4F07-8B97-424B72342DE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09D3E-C767-443C-BB4F-6B5B0A875BB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굴림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330066"/>
                </a:solidFill>
                <a:latin typeface="굴림"/>
              </a:rPr>
              <a:t>동산 의료원</a:t>
            </a:r>
            <a:endParaRPr b="1" lang="en-US" sz="7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굴림"/>
              </a:rPr>
              <a:t>06’ </a:t>
            </a:r>
            <a:r>
              <a:rPr b="1" lang="zh-CN" sz="3200" spc="-1" strike="noStrike">
                <a:solidFill>
                  <a:srgbClr val="000000"/>
                </a:solidFill>
                <a:latin typeface="굴림"/>
              </a:rPr>
              <a:t>김예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009.2.2~2009.2.20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위치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대구광역시 중구 동산동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194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     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물리치료실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- 2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지하철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호선 서문시장역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번 출구 서문시장방향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도보로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분 거리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"/>
          <p:cNvSpPr/>
          <p:nvPr/>
        </p:nvSpPr>
        <p:spPr>
          <a:xfrm>
            <a:off x="826920" y="2997360"/>
            <a:ext cx="360360" cy="215640"/>
          </a:xfrm>
          <a:prstGeom prst="rightArrow">
            <a:avLst>
              <a:gd name="adj1" fmla="val 50000"/>
              <a:gd name="adj2" fmla="val 4177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물리치료실 환경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작고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시설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도구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이 오래됨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치료사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명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평균연령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30~40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대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4:4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정형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3)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신경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3)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소아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로 구성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복장 자유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가운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면바지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흰 셔츠나 흰 티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명찰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머리는 단정히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병원 생활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6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출근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40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늦어도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까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식사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~ 1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식권 한 장에 천원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퇴근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(4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에 도서관 보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토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일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공휴일 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200" spc="-1" strike="noStrike">
                <a:solidFill>
                  <a:srgbClr val="330066"/>
                </a:solidFill>
                <a:latin typeface="굴림"/>
              </a:rPr>
              <a:t>병원 생활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A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조와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B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조 나누어 오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오후로 도서관에서 개인시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공부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과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가짐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질문 거의 없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그냥 치료 하는 것 보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뒷정리하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시키는 일 하면 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주일마다 환자 정해서 차트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개 작성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국내논문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6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개 요약 발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치료사의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lecture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없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금요일 아침에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Conference(8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20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분까지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330066"/>
                </a:solidFill>
                <a:latin typeface="굴림"/>
              </a:rPr>
              <a:t>감사합니다</a:t>
            </a:r>
            <a:r>
              <a:rPr b="0" lang="en-US" sz="7200" spc="-1" strike="noStrike">
                <a:solidFill>
                  <a:srgbClr val="330066"/>
                </a:solidFill>
                <a:latin typeface="굴림"/>
              </a:rPr>
              <a:t>.</a:t>
            </a:r>
            <a:endParaRPr b="1" lang="en-US" sz="7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0:13:27Z</dcterms:created>
  <dc:creator>g]</dc:creator>
  <dc:description/>
  <dc:language>en-US</dc:language>
  <cp:lastModifiedBy>경상대 컴퓨터실 프린터</cp:lastModifiedBy>
  <dcterms:modified xsi:type="dcterms:W3CDTF">2009-04-09T03:28:07Z</dcterms:modified>
  <cp:revision>19</cp:revision>
  <dc:subject/>
  <dc:title>Welcome to 꿈동산</dc:title>
</cp:coreProperties>
</file>