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A91AB-234E-4C99-8E1D-8AC567503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CD883-4DC3-4924-9243-AD65812B3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9C929-9979-415E-956A-7287714BA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74FC7-6D0F-499E-9B4B-E0E5110CF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A9944-30B8-4421-A8B9-787060CC1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D3947-509D-41DE-9FA9-8C1441737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0CBE4-3640-4F59-B321-E7C76D9BF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F8492-BAB9-48F1-95B0-9CB7AB84E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2DD4D-F1E0-4CA9-8634-071FF17DA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80A57-2B6E-4265-BBC2-7344A5AA8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70BAD-53C6-4CD4-AD7A-85FC20BC4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4C41C-53FF-4B4D-86AB-16AD5BAE6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D170E-2EF4-4AA9-AF0A-D1CEE6A01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EDADF-AFA1-4666-AB73-CD659D59E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632B3-3A98-4793-AA63-FA56E3E64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F435C-5CCE-4501-BB3A-B8711050C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7402C-7AA7-42BF-81D8-81FFE970A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99655-3A40-4E38-8D86-05462B2C6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D76C5-3477-496F-BDEC-B1181EF14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FFB56-29BE-4B37-A60A-B681AC141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41D86-9CA0-4A3A-B2AD-1B7C18422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76CCF-B045-41AA-BE6B-539498FF3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DF0CC-FB34-41E5-93FA-10C019086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17FE1-8890-4967-B7AA-D8A997864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4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5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6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7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8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9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0" name="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83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21" name=""/>
          <p:cNvGrpSpPr/>
          <p:nvPr/>
        </p:nvGrpSpPr>
        <p:grpSpPr>
          <a:xfrm>
            <a:off x="0" y="0"/>
            <a:ext cx="9144000" cy="380880"/>
            <a:chOff x="0" y="0"/>
            <a:chExt cx="9144000" cy="380880"/>
          </a:xfrm>
        </p:grpSpPr>
        <p:sp>
          <p:nvSpPr>
            <p:cNvPr id="22" name=""/>
            <p:cNvSpPr/>
            <p:nvPr/>
          </p:nvSpPr>
          <p:spPr>
            <a:xfrm>
              <a:off x="0" y="0"/>
              <a:ext cx="9144000" cy="380880"/>
            </a:xfrm>
            <a:prstGeom prst="rect">
              <a:avLst/>
            </a:prstGeom>
            <a:solidFill>
              <a:srgbClr val="f6b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pic>
          <p:nvPicPr>
            <p:cNvPr id="23" name="" descr=""/>
            <p:cNvPicPr/>
            <p:nvPr/>
          </p:nvPicPr>
          <p:blipFill>
            <a:blip r:embed="rId2"/>
            <a:stretch/>
          </p:blipFill>
          <p:spPr>
            <a:xfrm>
              <a:off x="762120" y="76320"/>
              <a:ext cx="7696080" cy="255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43800-B10C-44DA-8917-C98E38AB1DB6}" type="slidenum"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752480"/>
            <a:ext cx="910584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83" name=""/>
            <p:cNvGrpSpPr/>
            <p:nvPr/>
          </p:nvGrpSpPr>
          <p:grpSpPr>
            <a:xfrm>
              <a:off x="0" y="0"/>
              <a:ext cx="9144000" cy="866880"/>
              <a:chOff x="0" y="0"/>
              <a:chExt cx="9144000" cy="866880"/>
            </a:xfrm>
          </p:grpSpPr>
          <p:sp>
            <p:nvSpPr>
              <p:cNvPr id="84" name=""/>
              <p:cNvSpPr/>
              <p:nvPr/>
            </p:nvSpPr>
            <p:spPr>
              <a:xfrm>
                <a:off x="0" y="679320"/>
                <a:ext cx="9144000" cy="18756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492120"/>
                <a:ext cx="9144000" cy="18720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152280"/>
                <a:ext cx="9144000" cy="18756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30492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 flipV="1">
              <a:off x="0" y="0"/>
              <a:ext cx="611280" cy="6858000"/>
            </a:xfrm>
            <a:prstGeom prst="rect">
              <a:avLst/>
            </a:prstGeom>
            <a:solidFill>
              <a:srgbClr val="83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914400" y="3276720"/>
            <a:ext cx="7696080" cy="2556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4"/>
          </p:nvPr>
        </p:nvSpPr>
        <p:spPr>
          <a:xfrm>
            <a:off x="651960" y="6238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ftr" idx="5"/>
          </p:nvPr>
        </p:nvSpPr>
        <p:spPr>
          <a:xfrm>
            <a:off x="32349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691AE-050E-400C-9B3B-54696EDBE47B}" type="slidenum"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55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2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f6bf88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51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cafe.daum.net/severancePT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18920" y="2204640"/>
            <a:ext cx="62643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200" spc="-1" strike="noStrike">
                <a:solidFill>
                  <a:srgbClr val="000000"/>
                </a:solidFill>
                <a:latin typeface="굴림체"/>
                <a:ea typeface="굴림체"/>
              </a:rPr>
              <a:t>신촌 세브란스병원</a:t>
            </a:r>
            <a:endParaRPr b="0" i="1" lang="en-US" sz="5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2050920" y="4005000"/>
            <a:ext cx="6400800" cy="19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발표자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종숙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생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신수정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종숙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환서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기간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12.29~2.21 (1,2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차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주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611280" y="836640"/>
            <a:ext cx="8532720" cy="104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병원위치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292929"/>
                </a:solidFill>
                <a:latin typeface="굴림"/>
              </a:rPr>
              <a:t>  </a:t>
            </a: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292929"/>
                </a:solidFill>
                <a:latin typeface="굴림"/>
              </a:rPr>
              <a:t>   </a:t>
            </a: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50920" y="1197000"/>
            <a:ext cx="4608360" cy="48960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932360" y="1197000"/>
            <a:ext cx="395928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호선 신촌역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출구 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걸어서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5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분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 출구 바로 앞에서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연세대학교 정문까지 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버스 환승가능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병원위치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 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50920" y="1125360"/>
            <a:ext cx="4105080" cy="504036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4427640" y="1125360"/>
            <a:ext cx="446544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이 본관 새병원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본관에 물리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7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이 재활병원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재활병원 내 물리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통증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총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개 치료실이 운영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7"/>
          <a:stretch/>
        </p:blipFill>
        <p:spPr>
          <a:xfrm>
            <a:off x="4572000" y="3573360"/>
            <a:ext cx="4176720" cy="257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복장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흰색 폴로 티셔츠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카라있는 티셔츠로서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여름엔 반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추우면 긴팔 선택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바지는 면바지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청바지 절대 안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신발은 오랜 기간 서있어도 편한 캐쥬얼 슈즈 혹은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 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흰색 운동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사실 색은 별 상관이 없음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필히 수영복과 개인 수건 지참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수치료 실습시 필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가운 필요 없음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68000" y="1790280"/>
            <a:ext cx="8218440" cy="15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스케쥴표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생이 직접 짜서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부 출력 해서 가야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총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파트로 실습 나오는 학생들이 같은 층에 배 치 되지  않아야 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39640" y="3716280"/>
            <a:ext cx="8064720" cy="216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실습시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전 근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:30-12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점심 시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2:30-1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후 근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30-5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출근 시간은 공식적으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:3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까지이나 각 층별 스케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PT rounding, conference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에 따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에 시작할 때도 있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첫날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 까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물리치료실로와서 실습 당담치료사를 찾아가면 된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그외준비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는 첫날 반명함판 사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매 필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찰 제작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브란스는 자체 명찰을 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주일 한번 렉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점심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학생식당이나 직원식당을 이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학생식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500~300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직원식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찰제시시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 : 250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무도 안내해 주지 않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잘 찾아 가야함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brain injury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SCI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 관찰해서 매일 카페에 관찰 내용 올리기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 1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항목 올리기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본관 새병원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 &amp; web repor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치료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소아치료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제 없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 u="sng">
                <a:solidFill>
                  <a:srgbClr val="f6bf88"/>
                </a:solidFill>
                <a:uFillTx/>
                <a:latin typeface="굴림"/>
                <a:hlinkClick r:id="rId1"/>
              </a:rPr>
              <a:t>http://cafe.daum.net/severanceP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 카페 주소만 알면 됨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;;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5T06:28:39Z</dcterms:created>
  <dc:creator>최원혁</dc:creator>
  <dc:description/>
  <dc:language>en-US</dc:language>
  <cp:lastModifiedBy>Staff</cp:lastModifiedBy>
  <dcterms:modified xsi:type="dcterms:W3CDTF">2009-04-11T08:08:15Z</dcterms:modified>
  <cp:revision>9</cp:revision>
  <dc:subject/>
  <dc:title>병원 실습 발표 - 대구 우리들 병원 - 대구 </dc:title>
</cp:coreProperties>
</file>