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252246-1559-4973-85F4-9156CCDBD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283829-5CD7-4DB5-A17D-54F09AD55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3AC2A2-7E7A-4DBD-A9C8-EBD2B8D79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A06A81-B5FC-4F9F-B12F-B15F1E9F9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3F39C-0F72-4AFF-96D7-3E270AC1B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8D566-C989-46BA-860E-2B7D96862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6EBB1-40ED-4409-8792-13F7B528E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850E6-EEA6-4DEC-B83A-B63064FB6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1606C-30FF-42AB-AC28-F772794C7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85C67-BC01-4536-BD88-BDCB67621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1B632-5439-4CA0-8649-3CB10FA39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99FA6D-F8AD-413B-BDCC-6FF8829B5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412D3-AF99-4E1A-88C3-9B8A71979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7EDC3-1C88-4510-8A74-69937618B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67501-B69A-4CB3-92CB-DBDF53D4B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FA402-6422-4D9C-AC91-9C1DE07DE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B3292-9703-49F9-9D9F-3F5A01F7B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41E63A-7CE7-4A1C-AC65-FAA09310B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B35DAB-CB34-4629-B45E-B8179A0B0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128EDD-F5E9-47B0-AD3E-3AF15584B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8143F1-D174-4E25-97A5-22A26C3E7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A24983-2EF4-4D11-AF1B-3667B86E6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2134F9-FB83-4387-9D4B-69844C0A9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A46523-8C36-482A-945B-0D2CAA229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2B7E8-72D3-4A5A-80D2-ACC8310D2FB7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05757-A0B9-420A-B825-71451F38ADDF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S S P </a:t>
            </a:r>
            <a:r>
              <a:rPr b="0" lang="zh-CN" sz="5000" spc="-1" strike="noStrike">
                <a:solidFill>
                  <a:srgbClr val="ffffff"/>
                </a:solidFill>
                <a:latin typeface="굴림"/>
              </a:rPr>
              <a:t>치 료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376280" y="0"/>
            <a:ext cx="6392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893080" cy="68691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219640" y="566100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7d"/>
                </a:solidFill>
                <a:latin typeface="굴림"/>
              </a:rPr>
              <a:t>경부 통증 유발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893080" cy="71308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4500720" y="0"/>
            <a:ext cx="42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어깨 결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388360" cy="68454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95280" y="40464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오  십 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3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4360" y="0"/>
            <a:ext cx="6983280" cy="693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7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1144440"/>
            <a:ext cx="9144000" cy="45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539640" y="-42840"/>
            <a:ext cx="7993080" cy="68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SSP(silver spike point electrode):</a:t>
            </a: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은도금한 삼각 원뿔 모양의 전극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needleless acpuncture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의 분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표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이개용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흡인식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L: 100-140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약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M:145-195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H: 260-300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의 전류분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압박력에 비례하여 전류의 흐름이 많아짐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원추의 중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고밀도 통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SSP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와 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TENS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의 차이점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개발의 유래가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SP –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침 마취를 통해 발생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ENS –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관문조절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점이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효과점을 지향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동통 국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지배에 의거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모양이 다르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전방법이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저빈도 저주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중간 혹은 고빈도 저주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의 장단점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장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⑴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환자에게 안도감을 준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⑵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쾌적한 자극으로 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⑶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어린이 치료에 알맞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⑷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과민증 환자에게 적용이 편리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⑸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극강도를 적절히 조절할 수 있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⑹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부작용이나 합병증이 없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⑺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유로운 자세에서 치료가 가능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⑻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수단이 용이하고 치료방법이 간편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단점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체모가 많은 부분에 부착이 어려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적용 기술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일반적 적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⑴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점의 선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경혈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반응 양도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압통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발통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운동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말초신경 경로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환측의 반대측 건측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거자법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학적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point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⑵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선택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극성에 따른 차이가 없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체 부위별 자극의 감수성을 도려해야 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파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방향성 대칭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위상가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50-15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㎲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최근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는 맥동폭은 좁게 전압은 높게 설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기저항을 낮추기 위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방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연속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지속적 통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간격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속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소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혼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서로 다른 주파수를 교대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중 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Trimix)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Random TRM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세가지 주파수를 임의로 발생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weep TRM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한가지 주파수를 단계적으로 변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4800600"/>
            <a:ext cx="76320" cy="685800"/>
          </a:xfrm>
          <a:custGeom>
            <a:avLst/>
            <a:gdLst>
              <a:gd name="textAreaLeft" fmla="*/ 22320 w 76320"/>
              <a:gd name="textAreaRight" fmla="*/ 76320 w 76320"/>
              <a:gd name="textAreaTop" fmla="*/ 28440 h 685800"/>
              <a:gd name="textAreaBottom" fmla="*/ 6573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주파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침술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1Hz, 3Hz, 5Hz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의 저빈도 주파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연속 통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저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내인성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morphine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성 물질 유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중간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0-49Hz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고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50Hz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이상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소밀통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고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½Å¸íÁ¶"/>
              </a:rPr>
              <a:t>A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δ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및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C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섬유의 전도 차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적응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진통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마취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순환개선 및 조절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항 종창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마비 개선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암시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소화관 안전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가골형성 촉진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금 기 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피부염 등으로 전극을 설치할 수 없는 경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인공 심장기 착용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심근 경색 등 중증 심장질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뇌혈관장애 직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열이 있을 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임신 초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8T08:51:36Z</dcterms:created>
  <dc:creator>win xp</dc:creator>
  <dc:description/>
  <dc:language>en-US</dc:language>
  <cp:lastModifiedBy>win xp</cp:lastModifiedBy>
  <dcterms:modified xsi:type="dcterms:W3CDTF">2005-04-29T20:09:15Z</dcterms:modified>
  <cp:revision>13</cp:revision>
  <dc:subject/>
  <dc:title>SSP, MC, FES</dc:title>
</cp:coreProperties>
</file>