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53997-84F6-4885-AB9B-7D6596706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8ACE8-8997-4F92-AA19-06E8B1E53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0A9D7-C52A-4896-BA6B-076EBB878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BEE8F-2C65-490E-B5D7-BD612B501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6DAB2-6791-4093-BDE1-E41B067E3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4DF5E-DA11-4E45-B5B0-AD3E0F205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E7825-8C16-4F30-90DF-363BD2E34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08441-A8D3-4E0A-B3C5-6374063BD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3C7D6-5461-459A-9ED7-F1AC4B1C0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EA25E-2827-4838-858F-5CAA1AD70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33700-9276-448B-AE31-46E836CCB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616CC-0652-43BA-9424-451AD4A0E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BD9D6-3F88-42B4-A0CE-39B24B11B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C04DD-2C97-4FC0-BA47-1E23AB155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B0F09-5EFA-4909-8DE6-306C45BD1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F695C-C08C-4D17-B762-6BD15991B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C0E45-521C-4143-B18E-B2B05982F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7431C-FA73-4FDA-9E7A-3B5CB5855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860ED-4206-4887-BEB8-9BDF5782E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73E93-7A48-41F6-A43B-9703ED165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E3BCE-8135-47B0-BE3D-8BFDD66D4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1286F-78C2-451F-83E6-CA64B3378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D4EFE-AFE4-451D-881B-F0F907CB7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20312-8287-4CE3-A87E-BA76A9FBD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273C2-D023-45E3-A5C7-DA371E9283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0668E-D369-4272-B017-2BA920C953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1280"/>
            <a:ext cx="6400800" cy="17733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4-2 </a:t>
            </a:r>
            <a:r>
              <a:rPr b="0" lang="zh-CN" sz="4400" spc="-1" strike="noStrike">
                <a:solidFill>
                  <a:srgbClr val="ff0000"/>
                </a:solidFill>
                <a:latin typeface="굴림"/>
              </a:rPr>
              <a:t>일상생활과 일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115640" y="3886200"/>
            <a:ext cx="7056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상생활에서 ‘일’이 갖는 의미는 무엇일까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‘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’은 자본주의 사회의 경제활동과 어떤 차이가 있을까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실천적 관심의 세계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2276640"/>
            <a:ext cx="7696080" cy="32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생활세계는 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‘실천적 관심’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에 의해서 지배되는 세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에서 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‘</a:t>
            </a:r>
            <a:r>
              <a:rPr b="1" lang="zh-CN" sz="3200" spc="-1" strike="noStrike">
                <a:solidFill>
                  <a:srgbClr val="ff0000"/>
                </a:solidFill>
                <a:latin typeface="굴림"/>
              </a:rPr>
              <a:t>일’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은 특별한 의미를 갖는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이란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696080" cy="35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어떤 기획에 기초한 외부 세계에서의 행위로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체적인 운동을 통하여 기획된 사태를 일으키려는 의도를 특징으로 한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&gt;(Schutz, 1973: 212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단순한 생각의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숨겨진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실행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vs.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신체적인 운동을 요구하는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드러난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실행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일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vs.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경제활동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/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임금노동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재생산 노동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소비활동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55280" y="-3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아는 일 속에서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을 통하여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자신의 현재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과거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미래를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특정한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간 차원으로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통합한다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말하기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글쓰기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신체노동하기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책 읽기 등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신체운동을 통해 내적인 시간에서 외적 시간으로 전환이 이루어진다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외적인 공간과 시간 속에서 발생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일하는 자아만이 자신을 주체로서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그리고 현재형으로 경험하며 하나의 통일체로 실현한다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하는 행위를 통해 타인과 </a:t>
            </a:r>
            <a:r>
              <a:rPr b="1" lang="zh-CN" sz="3200" spc="-1" strike="noStrike">
                <a:solidFill>
                  <a:srgbClr val="ff0000"/>
                </a:solidFill>
                <a:latin typeface="굴림"/>
              </a:rPr>
              <a:t>소통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한다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소통은 사회적인 ‘일’을 수행하는 행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소통은 사유의 기호인 ‘표현적인 장’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하는 행위를 통해 일상세계의 서로 다른 </a:t>
            </a:r>
            <a:r>
              <a:rPr b="1" lang="zh-CN" sz="3200" spc="-1" strike="noStrike">
                <a:solidFill>
                  <a:srgbClr val="ff0000"/>
                </a:solidFill>
                <a:latin typeface="굴림"/>
              </a:rPr>
              <a:t>공간적인 전망을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 조직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내 신체의 지금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여기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공간 좌표의 중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&lt;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현재적인 도달거리 내의 세계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하는 자아의 온전한 흐름을 통해 일상에서 실천적으로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적합한 부분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을 발견하고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이것이 우리의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사유흐름의 형식과 내용을 결정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7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인간학적인 일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자본주의 사회의 경제활동으로 환원되지 않는 “일”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객관주의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에 대한 비판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1T01:23:53Z</dcterms:created>
  <dc:creator>Staff</dc:creator>
  <dc:description/>
  <dc:language>en-US</dc:language>
  <cp:lastModifiedBy>Staff</cp:lastModifiedBy>
  <dcterms:modified xsi:type="dcterms:W3CDTF">2009-03-23T05:54:27Z</dcterms:modified>
  <cp:revision>6</cp:revision>
  <dc:subject/>
  <dc:title>4-2 일상생활과 일</dc:title>
</cp:coreProperties>
</file>